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AE4B-72DF-4132-9276-445AA07A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54FC-3E18-4101-9BF1-B73F374A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DA3-2B7B-49CC-88D6-182CE279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2A4-1E64-4E14-9A6C-DB8FAC8A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26BC-8422-41EC-B95C-89946521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3277-E1B7-40E0-AF6D-13DE5948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06E-E799-495E-A4D2-B2182686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747-3B90-4D51-805A-9AA23063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7C45-069F-40B7-AFE9-A7460FFD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751-D192-4317-ACB6-8A1BFD50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E800-108D-424A-BBF0-FE595A02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B900-926C-4514-8941-BA710F32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71C9-0C15-4D4A-93BB-EC2FFCFDA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" Target="slide46.xml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slide" Target="slide7.xml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slide" Target="slide17.xml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slide" Target="slide27.xml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4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5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9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slide" Target="slide29.xml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slide" Target="slide40.xml"/><Relationship Id="rId43" Type="http://schemas.openxmlformats.org/officeDocument/2006/relationships/image" Target="../media/image2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1.png"/><Relationship Id="rId47" Type="http://schemas.openxmlformats.org/officeDocument/2006/relationships/slide" Target="slide60.xml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image" Target="../media/image2.png"/><Relationship Id="rId53" Type="http://schemas.openxmlformats.org/officeDocument/2006/relationships/image" Target="../media/image1.png"/><Relationship Id="rId54" Type="http://schemas.openxmlformats.org/officeDocument/2006/relationships/image" Target="../media/image2.png"/><Relationship Id="rId55" Type="http://schemas.openxmlformats.org/officeDocument/2006/relationships/image" Target="../media/image1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2.png"/><Relationship Id="rId59" Type="http://schemas.openxmlformats.org/officeDocument/2006/relationships/image" Target="../media/image1.png"/><Relationship Id="rId60" Type="http://schemas.openxmlformats.org/officeDocument/2006/relationships/image" Target="../media/image2.png"/><Relationship Id="rId61" Type="http://schemas.openxmlformats.org/officeDocument/2006/relationships/image" Target="../media/image1.png"/><Relationship Id="rId62" Type="http://schemas.openxmlformats.org/officeDocument/2006/relationships/slide" Target="slide13.xml"/><Relationship Id="rId63" Type="http://schemas.openxmlformats.org/officeDocument/2006/relationships/image" Target="../media/image2.png"/><Relationship Id="rId64" Type="http://schemas.openxmlformats.org/officeDocument/2006/relationships/image" Target="../media/image1.png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image" Target="../media/image2.png"/><Relationship Id="rId68" Type="http://schemas.openxmlformats.org/officeDocument/2006/relationships/image" Target="../media/image1.png"/><Relationship Id="rId69" Type="http://schemas.openxmlformats.org/officeDocument/2006/relationships/slide" Target="slide44.xml"/><Relationship Id="rId70" Type="http://schemas.openxmlformats.org/officeDocument/2006/relationships/image" Target="../media/image2.png"/><Relationship Id="rId71" Type="http://schemas.openxmlformats.org/officeDocument/2006/relationships/image" Target="../media/image1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64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hyperlink" Target="file:///tmp/home/.config/libreoffice/4/user/gallery/APPLAUSE.WAV" TargetMode="External"/><Relationship Id="rId83" Type="http://schemas.openxmlformats.org/officeDocument/2006/relationships/image" Target="../media/image3.png"/><Relationship Id="rId84" Type="http://schemas.openxmlformats.org/officeDocument/2006/relationships/oleObject" Target="../embeddings/oleObject1.bin"/><Relationship Id="rId85" Type="http://schemas.openxmlformats.org/officeDocument/2006/relationships/image" Target="../media/image4.png"/><Relationship Id="rId86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862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8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9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1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2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4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5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81500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6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7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9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0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2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3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5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6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7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8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0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1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3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4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338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5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6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8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9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0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1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2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3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4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5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6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7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862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0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1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3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4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7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8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0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1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338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2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3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5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6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77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8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79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80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81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1003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ustral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rId82"/>
          </p:cNvPr>
          <p:cNvPicPr/>
          <p:nvPr/>
        </p:nvPicPr>
        <p:blipFill>
          <a:blip r:embed="rId83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8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5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assification of Mammals with pou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Maruspia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econd largest bird in the world is native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ostri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ustralia’s wild do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ding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ustralian island is the home of a devil and a wo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asm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though the National Bird of New Zealand, it is also indigenous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Kiw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al Jeopardy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Final Jeopardy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Ann Scott</cp:lastModifiedBy>
  <dcterms:modified xsi:type="dcterms:W3CDTF">2008-06-03T19:27:48Z</dcterms:modified>
  <cp:revision>45</cp:revision>
  <dc:subject/>
  <dc:title>No Slide Title</dc:title>
</cp:coreProperties>
</file>