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D45-34AA-44E9-93D4-5936AA85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32C-70DF-42A0-8B10-B33A18DF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616-83E9-4717-B8F1-CD2A2D8B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4DC-521E-47B6-8901-24C83D6E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2F8-0E8F-46DA-8846-A19C0A2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C4C-C107-429F-B22A-CB4E9A00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ED4-ECA6-4C02-8715-49607B18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3E2-F764-43E8-8748-A2BF8684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B56-8B22-4F8C-8B72-02825EED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7EC-E16F-45E1-80CB-D31AAD8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56A-0C35-47D0-9CEC-83C3D66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78B-64D3-4E19-ACE6-9077DD81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E116-159F-4988-ABF8-BC9469FB3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nn Scott</cp:lastModifiedBy>
  <dcterms:modified xsi:type="dcterms:W3CDTF">2008-06-03T19:27:48Z</dcterms:modified>
  <cp:revision>45</cp:revision>
  <dc:subject/>
  <dc:title>No Slide Title</dc:title>
</cp:coreProperties>
</file>